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63F-7A90-4FCC-9971-88DA3F33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852-438E-4B1A-97D9-785B3E0A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7DB-EEAD-4F5A-B32A-60B6A88E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B46-BC00-49CF-8D94-486F3D8C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DB2-7457-43C8-9F8A-80A5FE01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B19-D6DF-44CF-BAC9-3635E567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EB5-D424-4E3E-88D3-359EE29C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7B6-AF8B-4E2B-AB56-A2D8D2C6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A13-805F-434B-A43D-F8BA8120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415-732D-4DFC-8FFF-764252E6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15A-6E42-4B8C-85EF-311D79EA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E67-5EF6-437D-9437-20728289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15ED-3A5A-49BC-BFF2-1F70974E6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ot re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341360"/>
            <a:ext cx="6400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as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y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s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asmin’s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plot in 10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n 5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 Shifty and Yasmi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5:47:04Z</dcterms:created>
  <dc:creator>maninder singh</dc:creator>
  <dc:description/>
  <dc:language>en-US</dc:language>
  <cp:lastModifiedBy>maninder singh</cp:lastModifiedBy>
  <dcterms:modified xsi:type="dcterms:W3CDTF">2010-11-04T15:50:52Z</dcterms:modified>
  <cp:revision>3</cp:revision>
  <dc:subject/>
  <dc:title>Slide 1</dc:title>
</cp:coreProperties>
</file>